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7DA-1C8F-4E9E-A148-C80F919F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DEE-91CF-4837-9A3A-81D65C25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301-4CAC-4B29-9323-51EF23AF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4B8-EEBA-4179-AF0D-24B27080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83D-C434-4154-8741-C6892CBC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9A0-5500-4301-B40E-CD99E2DF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DCC-9044-48A0-ACE4-FA9F7320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3A1-AF28-4EAC-8F6B-936C6910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547-882C-4F83-9A14-07934061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F9C-C2EB-4808-A915-A9B8658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664-3570-437C-AB89-6FD601FF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D5E-33CC-4C98-A099-72CF2B0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D29E-99AB-47DA-B1A0-448668E34FD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94400" y="1650240"/>
            <a:ext cx="4872600" cy="3332880"/>
            <a:chOff x="1994400" y="1650240"/>
            <a:chExt cx="4872600" cy="3332880"/>
          </a:xfrm>
        </p:grpSpPr>
        <p:grpSp>
          <p:nvGrpSpPr>
            <p:cNvPr id="42" name=""/>
            <p:cNvGrpSpPr/>
            <p:nvPr/>
          </p:nvGrpSpPr>
          <p:grpSpPr>
            <a:xfrm>
              <a:off x="1994400" y="3236400"/>
              <a:ext cx="1802520" cy="1720800"/>
              <a:chOff x="1994400" y="3236400"/>
              <a:chExt cx="1802520" cy="1720800"/>
            </a:xfrm>
          </p:grpSpPr>
          <p:sp>
            <p:nvSpPr>
              <p:cNvPr id="43" name=""/>
              <p:cNvSpPr/>
              <p:nvPr/>
            </p:nvSpPr>
            <p:spPr>
              <a:xfrm flipH="1" flipV="1" rot="14601000">
                <a:off x="2543040" y="3774600"/>
                <a:ext cx="1468440" cy="425160"/>
              </a:xfrm>
              <a:prstGeom prst="ellipse">
                <a:avLst/>
              </a:prstGeom>
              <a:noFill/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flipV="1" rot="14601000">
                <a:off x="1832400" y="4401360"/>
                <a:ext cx="914400" cy="202680"/>
              </a:xfrm>
              <a:prstGeom prst="ellipse">
                <a:avLst/>
              </a:prstGeom>
              <a:noFill/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2106360" y="3335760"/>
                <a:ext cx="851040" cy="766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2496240" y="4668120"/>
                <a:ext cx="1119240" cy="2505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flipV="1" rot="14601000">
                <a:off x="2543040" y="3774600"/>
                <a:ext cx="1468440" cy="425160"/>
              </a:xfrm>
              <a:prstGeom prst="ellipse">
                <a:avLst/>
              </a:prstGeom>
              <a:noFill/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H="1" flipV="1" rot="3448800">
              <a:off x="4751280" y="2539080"/>
              <a:ext cx="1595520" cy="441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 rot="3448800">
              <a:off x="6014520" y="2019240"/>
              <a:ext cx="992160" cy="21132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979960" y="2548800"/>
              <a:ext cx="789120" cy="892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111280" y="1696680"/>
              <a:ext cx="1135440" cy="365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 rot="3448800">
              <a:off x="4751280" y="2539080"/>
              <a:ext cx="1595520" cy="44100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2306520" y="1820880"/>
            <a:ext cx="4533840" cy="31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06520" y="1820880"/>
                      <a:ext cx="4533840" cy="31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2963880" y="3778200"/>
              <a:ext cx="23760" cy="619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cubicBezTo>
                    <a:pt x="7" y="14"/>
                    <a:pt x="14" y="28"/>
                    <a:pt x="15" y="39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30280" y="434988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0"/>
                  </a:moveTo>
                  <a:cubicBezTo>
                    <a:pt x="12" y="18"/>
                    <a:pt x="24" y="36"/>
                    <a:pt x="27" y="42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35440" y="248292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cubicBezTo>
                    <a:pt x="10" y="15"/>
                    <a:pt x="21" y="30"/>
                    <a:pt x="24" y="36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24000" y="115920"/>
            <a:ext cx="85690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is how the simplified structure of the non-covalent complex between CYCLO (blue baskets) and Cholesterol looks like. In the “ideal” complex structure two CYCLO baskets bind one molecule of cholesterol. This is the form of a supramolecular complex where CYCLO is the shuttle that transports cholesterol in the body and replaces the role of the missing protein transpo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 that my calculations were (for some mathematical reasons) made only when one basket binds one cholesterol, but tendencies obtained are vali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in vitro based calcula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age of CYCLO-bound cholester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ions were made with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lecular mass of HPBCD =  14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der in vitro model conditions in slowly stirred 37o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628640"/>
          <a:ext cx="8642160" cy="5094360"/>
        </p:xfrm>
        <a:graphic>
          <a:graphicData uri="http://schemas.openxmlformats.org/drawingml/2006/table">
            <a:tbl>
              <a:tblPr/>
              <a:tblGrid>
                <a:gridCol w="3168720"/>
                <a:gridCol w="2738160"/>
                <a:gridCol w="2735280"/>
              </a:tblGrid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“dos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ure 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imulated  human seru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g HPB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body weight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14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g HPB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body weight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6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320" y="2133720"/>
          <a:ext cx="9121680" cy="49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2133720"/>
                    <a:ext cx="9121680" cy="49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164360" y="2421000"/>
          <a:ext cx="165744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421000"/>
                    <a:ext cx="16574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50920" y="0"/>
            <a:ext cx="87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aph only shows that UNDER IN VITRO CONDITIONS  among many other types of  CYLO’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BCD (orange b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hibit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ly modest, but us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sterol binding. Note that ot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cholesterol bi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AME, DIMEB etc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OT EASILY REL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entrapped and transported cholesterol. We need to bind gently then to transport and finally have it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HPBCD is the right choice!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8:28:35Z</dcterms:created>
  <dc:creator>Fenyvesi Éva</dc:creator>
  <dc:description/>
  <dc:language>en-US</dc:language>
  <cp:lastModifiedBy>Szentel</cp:lastModifiedBy>
  <dcterms:modified xsi:type="dcterms:W3CDTF">2009-04-17T11:33:44Z</dcterms:modified>
  <cp:revision>4</cp:revision>
  <dc:subject/>
  <dc:title>Slide 1</dc:title>
</cp:coreProperties>
</file>